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94A-4CBF-4832-86E8-D339D398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77A-49A7-4741-988F-0437D23F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44B-DDBE-44D9-8D23-7268F9E7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6A5-9BFA-435F-BCB7-DC1469A1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4A85-A435-4828-AFB4-5695B435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5A64-541E-4DE5-8BCE-57CBE31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3739-E298-4EFD-BE07-3421E0B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1F2-461E-49F4-B826-DAEE60A8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13BC-79EE-41CB-B94E-1EB0E48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8B2-8CFB-49E0-B7D0-B09C6F8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34EC-3A7D-4BDE-98B4-1FD3574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A5E-12B6-4635-9766-67513F9F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34CD-754D-4BD6-A2F4-9CCB628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2D1-A5C4-40F8-B96B-BD616B9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1C81-0A7B-4139-9AD2-086B3904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066-DE45-47BA-87E9-B5F9E90D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67B3-DED0-4F97-B64B-A4256CBD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AA4-3470-4679-8AF9-D26C495C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983-5E23-4F22-8770-2E625787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58D-EBFF-4C20-8322-1CF67D6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E4E-05A5-4D5B-84FD-BCC7EBF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BC6-EA33-4765-BD52-B681B30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0DF-F08B-4251-964C-A768271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7F8-DF6D-4EDD-9262-A312C1B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E1B1-3433-4761-B8D6-51EA8C19AC5C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5A8E-D2D8-42EB-A95D-7410A9BC21E1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mages.google.cat/imgres?imgurl=http://4.bp.blogspot.com/_laW9j0fVAas/R9_7u6aHI5I/AAAAAAAABpw/78tGDErsl9M/s320/DALASI.jpg&amp;imgrefurl=http://billetesymonedas.blogspot.com/2008/03/dalasi-moneda-de-gambia.html&amp;usg=__R3ky6mLgujksYVi99qUvALaa3Sg=&amp;h=250&amp;w=250&amp;sz=8&amp;hl=ca&amp;start=2&amp;um=1&amp;tbnid=wJgQr0kWt14vfM:&amp;tbnh=111&amp;tbnw=111&amp;prev=/images%3Fq%3DMONEDA%2BDE%2BGAMBIA%26hl%3Dca%26um%3D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at/imgres?imgurl=http://www.infogambia.com/Historia/bandera-gambia.gif&amp;imgrefurl=http://www.infogambia.com/Historia/Historia.htm&amp;usg=__y0Q6nETRFHWrupR4UbZZ8MkYhTQ=&amp;h=333&amp;w=500&amp;sz=3&amp;hl=ca&amp;start=2&amp;um=1&amp;tbnid=0xiCv4EyQTyQqM:&amp;tbnh=87&amp;tbnw=130&amp;prev=/images%3Fq%3Dbandera%2Bde%2Bgambia%26hl%3Dca%26sa%3DX%26um%3D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/imgres?imgurl=http://planesretallsforans.googlepages.com/00peix.jpg/00peix-full%3Binit:.jpg&amp;imgrefurl=http://planesretallsforans.googlepages.com/receptari6&amp;usg=__maLl6pb3_YMYCAuS5KY4LpaZgiU=&amp;h=300&amp;w=400&amp;sz=24&amp;hl=ca&amp;start=5&amp;tbnid=xcTreH5dpXL0kM:&amp;tbnh=93&amp;tbnw=124&amp;prev=/images%3Fq%3DPEIX%26gbv%3D2%26hl%3Dca%26sa%3D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www.mpt.es/ministerio/delegaciones_gobierno/delegaciones/galicia/actualidad/notas_de_prensa/notas/2008/12/2008_12_23/image_es/vaca.jpeg&amp;imgrefurl=http://www.mpt.es/ministerio/delegaciones_gobierno/delegaciones/galicia/actualidad/notas_de_prensa/notas/2008/12.html&amp;usg=__9VGtyX_fLbLz8M3a5YIAKIOFBCE=&amp;h=283&amp;w=400&amp;sz=49&amp;hl=ca&amp;start=3&amp;um=1&amp;tbnid=Q2D0-Ukyub5GFM:&amp;tbnh=88&amp;tbnw=124&amp;prev=/images%3Fq%3DVACA%26imgtbs%3Ds%26hl%3Dca%26sa%3DG%26um%3D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at/imgres?imgurl=http://www.naciodigital.cat/blocdefotos/fotos/gran/140.jpg&amp;imgrefurl=http://www.naciodigital.cat/blocdefotos/%3Fseccio%3Dnoticies%26accio%3Dveure%26id%3D140&amp;usg=__HtLnns4vVNeaGAye4yuCUXobn4Q=&amp;h=602&amp;w=800&amp;sz=474&amp;hl=ca&amp;start=2&amp;um=1&amp;tbnid=1LXRy23KajcDgM:&amp;tbnh=108&amp;tbnw=143&amp;prev=/images%3Fq%3DGALLINES%26ndsp%3D20%26hl%3Dca%26sa%3DN%26um%3D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at/imgres?imgurl=http://www.anoiadiari.cat/imatges/noticia/xai.png&amp;imgrefurl=http://www.anoiadiari.cat/noticia/626/la-festa-el-xai&amp;usg=__tPsUufv8U_zilHhn63G916GIqL8=&amp;h=339&amp;w=455&amp;sz=244&amp;hl=ca&amp;start=1&amp;um=1&amp;tbnid=UPJhrYnlLF2V5M:&amp;tbnh=95&amp;tbnw=128&amp;prev=/images%3Fq%3Dxai%26hl%3Dca%26um%3D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www.accessgambia.com/information/large/sarahule-4.jpg&amp;imgrefurl=http://www.accessgambia.com/information/gambia-photo-gallery.html&amp;usg=__dlAWJnmyw6bPtE-WhR7njUY8l20=&amp;h=500&amp;w=302&amp;sz=34&amp;hl=ca&amp;start=2&amp;um=1&amp;tbnid=OzcQ8qCoMB26cM:&amp;tbnh=130&amp;tbnw=79&amp;prev=/images%3Fq%3DSONINKE%26hl%3Dca%26um%3D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comprenderelayer.files.wordpress.com/2008/11/esclavos2.jpg&amp;imgrefurl=http://comprenderelayer.wordpress.com/2008/11/&amp;usg=__yXtlKvIbvHk-X9UgWtlfwWRuJzM=&amp;h=286&amp;w=382&amp;sz=15&amp;hl=ca&amp;start=16&amp;um=1&amp;tbnid=R3ZcxhBPBt0MIM:&amp;tbnh=92&amp;tbnw=123&amp;prev=/images%3Fq%3Desclavos%26hl%3Dca%26sa%3DG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Gambia_President_Yahya_Jamme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servicios.laverdad.es/nuestratierra/nt10102008/imag/002D5CTGP3_1.jpg&amp;imgrefurl=http://servicios.laverdad.es/nuestratierra/nt10102008/suscr/nec3.htm&amp;usg=__nT45w00Byg4gjzNtZ7cy_Gup-Es=&amp;h=319&amp;w=450&amp;sz=39&amp;hl=ca&amp;start=19&amp;um=1&amp;tbnid=lpbc5QcgDINA0M:&amp;tbnh=90&amp;tbnw=127&amp;prev=/images?q=FAUNA+DE+GAMBIA&amp;hl=ca&amp;lr=&amp;rlz=1G1GGLQ_ESES323&amp;sa=N&amp;um=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franjadeponent.cat/gambia/fauna.jpg&amp;imgrefurl=http://www.franjadeponent.cat/gambia.htm&amp;usg=__yFZplE26hztypQLgUsbHJxL5r_E=&amp;h=225&amp;w=300&amp;sz=60&amp;hl=ca&amp;start=24&amp;um=1&amp;tbnid=de8Mue5M11VBTM:&amp;tbnh=87&amp;tbnw=116&amp;prev=/images?q=FAUNA+DE+GAMBIA&amp;ndsp=20&amp;hl=ca&amp;lr=&amp;rlz=1G1GGLQ_ESES323&amp;sa=N&amp;start=20&amp;um=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farm2.static.flickr.com/1026/1348948125_44a2b124f6_m.jpg&amp;imgrefurl=http://fiveprime.org/hivemind/Tags/bird,natureza&amp;usg=__3C0te2ogwrl1-pEU1RZ7oTX-1DU=&amp;h=240&amp;w=180&amp;sz=19&amp;hl=ca&amp;start=6&amp;um=1&amp;tbnid=OesI52SUsmbm_M:&amp;tbnh=110&amp;tbnw=83&amp;prev=/images?q=AVES+DE+GAMBIA&amp;hl=ca&amp;lr=&amp;rlz=1G1GGLQ_ESES323&amp;sa=G&amp;um=1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ikifaunia.com/images/7/7c/Chimpance.gif&amp;imgrefurl=http://wikifaunia.com/index.php/Chimpance&amp;usg=__aG5RMMwNF5_oarw7cuSBmDFfJyg=&amp;h=427&amp;w=398&amp;sz=122&amp;hl=ca&amp;start=1&amp;um=1&amp;tbnid=D_4xoxC-wNLvMM:&amp;tbnh=126&amp;tbnw=117&amp;prev=/images?q=CHIMPANCE&amp;hl=ca&amp;lr=&amp;rlz=1G1GGLQ_ESES323&amp;sa=G&amp;um=1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www.tuswallpapersgratis.com/images/wallpapers/Hipopotamo_1024x768-888373.jpeg&amp;imgrefurl=http://www.tuswallpapersgratis.com/wallpaper/Hipopotamo/&amp;usg=__VzSFFfwYejAM6L5TPthjy3a6Ol8=&amp;h=768&amp;w=1024&amp;sz=310&amp;hl=ca&amp;start=6&amp;um=1&amp;tbnid=Te_W_8EKLY92lM:&amp;tbnh=113&amp;tbnw=150&amp;prev=/images?q=HIPOPOTAMO&amp;hl=ca&amp;lr=&amp;rlz=1G1GGLQ_ESES323&amp;sa=G&amp;um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2280"/>
            <a:ext cx="622944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547640" y="836640"/>
            <a:ext cx="612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MB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2674800"/>
            <a:ext cx="46083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57440" y="244440"/>
            <a:ext cx="448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6600"/>
                </a:solidFill>
                <a:latin typeface="Arial Black"/>
              </a:rPr>
              <a:t>PARCS NATURALS</a:t>
            </a:r>
            <a:br>
              <a:rPr sz="4000"/>
            </a:b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RC 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U GÀ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rc Nacional de Biji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3 Imagen" descr="RIU.jpg"/>
          <p:cNvPicPr/>
          <p:nvPr/>
        </p:nvPicPr>
        <p:blipFill>
          <a:blip r:embed="rId1"/>
          <a:stretch/>
        </p:blipFill>
        <p:spPr>
          <a:xfrm>
            <a:off x="4786200" y="264312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31" name="5 Imagen" descr="plantes.jpg"/>
          <p:cNvPicPr/>
          <p:nvPr/>
        </p:nvPicPr>
        <p:blipFill>
          <a:blip r:embed="rId2"/>
          <a:stretch/>
        </p:blipFill>
        <p:spPr>
          <a:xfrm>
            <a:off x="571680" y="4287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PLATG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3" name="3 Marcador de contenido" descr="PLATJA.jpg"/>
          <p:cNvPicPr/>
          <p:nvPr/>
        </p:nvPicPr>
        <p:blipFill>
          <a:blip r:embed="rId1"/>
          <a:stretch/>
        </p:blipFill>
        <p:spPr>
          <a:xfrm>
            <a:off x="285840" y="1214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3 Imagen" descr="P1010193.jpg"/>
          <p:cNvPicPr/>
          <p:nvPr/>
        </p:nvPicPr>
        <p:blipFill>
          <a:blip r:embed="rId2"/>
          <a:stretch/>
        </p:blipFill>
        <p:spPr>
          <a:xfrm>
            <a:off x="3643200" y="1214280"/>
            <a:ext cx="5035680" cy="40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71280" y="244440"/>
            <a:ext cx="6070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+DADE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CAPITAL: BANJ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1.709.000 HAB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MONEDA:DAL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L CLIMA ÉS SUAU, NI MOLT FRED NI MOLTA C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3 Marcador de contenido" descr="BANJUL.jpg"/>
          <p:cNvPicPr/>
          <p:nvPr/>
        </p:nvPicPr>
        <p:blipFill>
          <a:blip r:embed="rId1"/>
          <a:stretch/>
        </p:blipFill>
        <p:spPr>
          <a:xfrm>
            <a:off x="4572000" y="1125360"/>
            <a:ext cx="4356000" cy="25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ALAS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40053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620640"/>
            <a:ext cx="12384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 QUÈ ES DEDICA LA GENT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1" name="3 Imagen" descr="CACA.jpg"/>
          <p:cNvPicPr/>
          <p:nvPr/>
        </p:nvPicPr>
        <p:blipFill>
          <a:blip r:embed="rId1"/>
          <a:stretch/>
        </p:blipFill>
        <p:spPr>
          <a:xfrm>
            <a:off x="1285920" y="3357720"/>
            <a:ext cx="30240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t3.gstatic.com/images?q=tbn:xcTreH5dpXL0kM:http://planesretallsforans.googlepages.com/00peix.jpg/00peix-full%3Binit: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75400" y="3400560"/>
            <a:ext cx="3151080" cy="224784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2202480" y="185724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RICULTURA I RAMAD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 CACAHUETS I PEIX  A  ALTRES PAÏ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ANIMALS DE GRANJ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va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557360"/>
            <a:ext cx="2520720" cy="178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3933720"/>
            <a:ext cx="2519280" cy="20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xa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71628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TNIES I IDIOM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BAMANA,DIOLA,FULAKUNDA,FULANE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KRIO,MANDINGO,MANJAK,SARAHU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SERER,TORO,TUKULOR,WOL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’IDIOMA OFICIAL 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’ANGLÈ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6 Imagen" descr="images.jpg"/>
          <p:cNvPicPr/>
          <p:nvPr/>
        </p:nvPicPr>
        <p:blipFill>
          <a:blip r:embed="rId1"/>
          <a:stretch/>
        </p:blipFill>
        <p:spPr>
          <a:xfrm>
            <a:off x="5724360" y="3284640"/>
            <a:ext cx="2857680" cy="33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ARAHULE O SONINKÉ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DE LES MÉS ANTIGUES D’À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AN FUNDAR L’IMPERI DE GHANA (S V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NOSTRE IDIOMA ES PARLA, NO S’ESCR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MEVA AL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SAHOKU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sarahule-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500280"/>
            <a:ext cx="22323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76400" y="244440"/>
            <a:ext cx="5065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M VIU LA GEN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6" name="3 Marcador de contenido" descr="MARE.jpg"/>
          <p:cNvPicPr/>
          <p:nvPr/>
        </p:nvPicPr>
        <p:blipFill>
          <a:blip r:embed="rId1"/>
          <a:stretch/>
        </p:blipFill>
        <p:spPr>
          <a:xfrm>
            <a:off x="1000080" y="500040"/>
            <a:ext cx="2814840" cy="2197080"/>
          </a:xfrm>
          <a:prstGeom prst="rect">
            <a:avLst/>
          </a:prstGeom>
          <a:ln w="0">
            <a:noFill/>
          </a:ln>
        </p:spPr>
      </p:pic>
      <p:pic>
        <p:nvPicPr>
          <p:cNvPr id="157" name="5 Imagen" descr="MERCAT.jpg"/>
          <p:cNvPicPr/>
          <p:nvPr/>
        </p:nvPicPr>
        <p:blipFill>
          <a:blip r:embed="rId2"/>
          <a:stretch/>
        </p:blipFill>
        <p:spPr>
          <a:xfrm>
            <a:off x="3571920" y="3357720"/>
            <a:ext cx="4619520" cy="317808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1643040" y="53578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RCAT  ES A L’AIRE LLI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5280" y="20811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LS NENS I NENES SON M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IMPORTAN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SCOL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1341360"/>
            <a:ext cx="80074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ÉS OBLIGATÒRIA. HI VA UN DE CADA TRES NENS O N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3 Imagen" descr="escola.jpg"/>
          <p:cNvPicPr/>
          <p:nvPr/>
        </p:nvPicPr>
        <p:blipFill>
          <a:blip r:embed="rId1"/>
          <a:stretch/>
        </p:blipFill>
        <p:spPr>
          <a:xfrm>
            <a:off x="1619280" y="256536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362000" y="38815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’ES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L 70% NO SABEN LLEGIR NI ESCRI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LTES CARRETERES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N ASFALT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GENT NO PASSA G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Ò FALTEN MOLTES C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77080" y="2997360"/>
            <a:ext cx="20448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Ntojo ni hatu nyi gambia  nga mun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829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ENJAR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68" name="4 Imagen" descr="MILL.jpg"/>
          <p:cNvPicPr/>
          <p:nvPr/>
        </p:nvPicPr>
        <p:blipFill>
          <a:blip r:embed="rId1"/>
          <a:stretch/>
        </p:blipFill>
        <p:spPr>
          <a:xfrm>
            <a:off x="1258920" y="184464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5 Imagen" descr="MANDIOCA.jpg"/>
          <p:cNvPicPr/>
          <p:nvPr/>
        </p:nvPicPr>
        <p:blipFill>
          <a:blip r:embed="rId2"/>
          <a:stretch/>
        </p:blipFill>
        <p:spPr>
          <a:xfrm>
            <a:off x="6516720" y="2060640"/>
            <a:ext cx="1501920" cy="934920"/>
          </a:xfrm>
          <a:prstGeom prst="rect">
            <a:avLst/>
          </a:prstGeom>
          <a:ln w="0">
            <a:noFill/>
          </a:ln>
        </p:spPr>
      </p:pic>
      <p:pic>
        <p:nvPicPr>
          <p:cNvPr id="170" name="6 Imagen" descr="DONES.jpg"/>
          <p:cNvPicPr/>
          <p:nvPr/>
        </p:nvPicPr>
        <p:blipFill>
          <a:blip r:embed="rId3"/>
          <a:stretch/>
        </p:blipFill>
        <p:spPr>
          <a:xfrm>
            <a:off x="3132000" y="2492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71" name="7 Imagen" descr="TIGO.jpg"/>
          <p:cNvPicPr/>
          <p:nvPr/>
        </p:nvPicPr>
        <p:blipFill>
          <a:blip r:embed="rId4"/>
          <a:stretch/>
        </p:blipFill>
        <p:spPr>
          <a:xfrm>
            <a:off x="1258920" y="4149720"/>
            <a:ext cx="1441440" cy="1233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1673280" y="3160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858360" y="29448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NDIO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791040" y="5392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241280" y="560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B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12 Marcador de contenido" descr="MANGO.jpg"/>
          <p:cNvPicPr/>
          <p:nvPr/>
        </p:nvPicPr>
        <p:blipFill>
          <a:blip r:embed="rId5"/>
          <a:stretch/>
        </p:blipFill>
        <p:spPr>
          <a:xfrm>
            <a:off x="6927840" y="3929040"/>
            <a:ext cx="1793880" cy="152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74000" y="5032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U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M SÓN LES CAS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9" name="5 Marcador de contenido" descr="1.jpg"/>
          <p:cNvPicPr/>
          <p:nvPr/>
        </p:nvPicPr>
        <p:blipFill>
          <a:blip r:embed="rId1"/>
          <a:stretch/>
        </p:blipFill>
        <p:spPr>
          <a:xfrm>
            <a:off x="4772160" y="2409840"/>
            <a:ext cx="3522600" cy="2511360"/>
          </a:xfrm>
          <a:prstGeom prst="rect">
            <a:avLst/>
          </a:prstGeom>
          <a:ln w="0">
            <a:noFill/>
          </a:ln>
        </p:spPr>
      </p:pic>
      <p:pic>
        <p:nvPicPr>
          <p:cNvPr id="180" name="6 Imagen" descr="HOUSE.jpg"/>
          <p:cNvPicPr/>
          <p:nvPr/>
        </p:nvPicPr>
        <p:blipFill>
          <a:blip r:embed="rId2"/>
          <a:stretch/>
        </p:blipFill>
        <p:spPr>
          <a:xfrm>
            <a:off x="331920" y="2143080"/>
            <a:ext cx="3627360" cy="2714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35160" y="5032440"/>
            <a:ext cx="76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LGUNES DE MAONS                          ALTRES DE PALLA I UNA S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HABIT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SOSTRE RO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LS CARRERS, LA GEN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3" name="4 Imagen" descr="fh105.jpg"/>
          <p:cNvPicPr/>
          <p:nvPr/>
        </p:nvPicPr>
        <p:blipFill>
          <a:blip r:embed="rId1"/>
          <a:stretch/>
        </p:blipFill>
        <p:spPr>
          <a:xfrm>
            <a:off x="5164200" y="1928880"/>
            <a:ext cx="2894040" cy="3857400"/>
          </a:xfrm>
          <a:prstGeom prst="rect">
            <a:avLst/>
          </a:prstGeom>
          <a:ln w="0">
            <a:noFill/>
          </a:ln>
        </p:spPr>
      </p:pic>
      <p:pic>
        <p:nvPicPr>
          <p:cNvPr id="184" name="3 Marcador de contenido" descr="taxi.jpg"/>
          <p:cNvPicPr/>
          <p:nvPr/>
        </p:nvPicPr>
        <p:blipFill>
          <a:blip r:embed="rId2"/>
          <a:stretch/>
        </p:blipFill>
        <p:spPr>
          <a:xfrm>
            <a:off x="0" y="1773360"/>
            <a:ext cx="4943520" cy="3187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200" y="5321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OT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57640" y="6113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RBRES I LA PLA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8" name="3 Marcador de contenido" descr="images.jpg"/>
          <p:cNvPicPr/>
          <p:nvPr/>
        </p:nvPicPr>
        <p:blipFill>
          <a:blip r:embed="rId1"/>
          <a:stretch/>
        </p:blipFill>
        <p:spPr>
          <a:xfrm>
            <a:off x="285840" y="1785960"/>
            <a:ext cx="2928960" cy="3882960"/>
          </a:xfrm>
          <a:prstGeom prst="rect">
            <a:avLst/>
          </a:prstGeom>
          <a:ln w="0">
            <a:noFill/>
          </a:ln>
        </p:spPr>
      </p:pic>
      <p:pic>
        <p:nvPicPr>
          <p:cNvPr id="189" name="6 Marcador de contenido" descr="com viu la gent 1.jpg"/>
          <p:cNvPicPr/>
          <p:nvPr/>
        </p:nvPicPr>
        <p:blipFill>
          <a:blip r:embed="rId2"/>
          <a:stretch/>
        </p:blipFill>
        <p:spPr>
          <a:xfrm>
            <a:off x="4040280" y="2671920"/>
            <a:ext cx="4680000" cy="277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6920" y="6113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PLA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08920" y="58244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GAFEN AIGUA DE P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93" name="3 Marcador de contenido" descr="gambia%20049.jpg"/>
          <p:cNvPicPr/>
          <p:nvPr/>
        </p:nvPicPr>
        <p:blipFill>
          <a:blip r:embed="rId1"/>
          <a:stretch/>
        </p:blipFill>
        <p:spPr>
          <a:xfrm>
            <a:off x="428760" y="35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infogambia.com/Fotos%20de%20Gambia/Foto%20Camp/34.jpg"/>
          <p:cNvPicPr/>
          <p:nvPr/>
        </p:nvPicPr>
        <p:blipFill>
          <a:blip r:embed="rId2"/>
          <a:stretch/>
        </p:blipFill>
        <p:spPr>
          <a:xfrm>
            <a:off x="4286160" y="3643200"/>
            <a:ext cx="4381560" cy="283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20920" y="373680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PORTEN EL MENJAR AL 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34720" y="316080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LS NENS TAMBE TREBAL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98" name="3 Marcador de contenido" descr="24A_0159.jpg"/>
          <p:cNvPicPr/>
          <p:nvPr/>
        </p:nvPicPr>
        <p:blipFill>
          <a:blip r:embed="rId1"/>
          <a:stretch/>
        </p:blipFill>
        <p:spPr>
          <a:xfrm>
            <a:off x="500040" y="285840"/>
            <a:ext cx="4714920" cy="3146400"/>
          </a:xfrm>
          <a:prstGeom prst="rect">
            <a:avLst/>
          </a:prstGeom>
          <a:ln w="0">
            <a:noFill/>
          </a:ln>
        </p:spPr>
      </p:pic>
      <p:pic>
        <p:nvPicPr>
          <p:cNvPr id="199" name="4 Imagen" descr="_29_0030.jpg"/>
          <p:cNvPicPr/>
          <p:nvPr/>
        </p:nvPicPr>
        <p:blipFill>
          <a:blip r:embed="rId2"/>
          <a:stretch/>
        </p:blipFill>
        <p:spPr>
          <a:xfrm>
            <a:off x="4643280" y="3595680"/>
            <a:ext cx="3783240" cy="2523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50760" y="3665520"/>
            <a:ext cx="34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 VEGADES VIATGEM AMB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AR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0200" y="632952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MERCAT I AUTOBU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RELIGIÓ MUSULMAN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03" name="3 Marcador de contenido" descr="392.jpg"/>
          <p:cNvPicPr/>
          <p:nvPr/>
        </p:nvPicPr>
        <p:blipFill>
          <a:blip r:embed="rId1"/>
          <a:stretch/>
        </p:blipFill>
        <p:spPr>
          <a:xfrm>
            <a:off x="2424240" y="2274840"/>
            <a:ext cx="4711680" cy="336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10000" y="58975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RESEM 22 VEG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FEST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06" name="4 Marcador de contenido" descr="DANÇA.jpg"/>
          <p:cNvPicPr/>
          <p:nvPr/>
        </p:nvPicPr>
        <p:blipFill>
          <a:blip r:embed="rId1"/>
          <a:stretch/>
        </p:blipFill>
        <p:spPr>
          <a:xfrm>
            <a:off x="4700520" y="2065320"/>
            <a:ext cx="3714840" cy="3527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32000" y="256536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286400">
            <a:off x="1980720" y="292356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CASA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NAIX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STUM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A ROBA ES DI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CUINEM A F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3 Imagen" descr="__6_0007.jpg"/>
          <p:cNvPicPr/>
          <p:nvPr/>
        </p:nvPicPr>
        <p:blipFill>
          <a:blip r:embed="rId1"/>
          <a:stretch/>
        </p:blipFill>
        <p:spPr>
          <a:xfrm>
            <a:off x="5940360" y="2492280"/>
            <a:ext cx="2479680" cy="336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7272360" cy="5454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8560" y="6113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HATU SAHO SA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ITUA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5 Marcador de contenido" descr="GAMBIE.gif"/>
          <p:cNvPicPr/>
          <p:nvPr/>
        </p:nvPicPr>
        <p:blipFill>
          <a:blip r:embed="rId1"/>
          <a:stretch/>
        </p:blipFill>
        <p:spPr>
          <a:xfrm>
            <a:off x="1979640" y="1341360"/>
            <a:ext cx="5200560" cy="520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ANICUNYI LUIS I JAYARE                 ARO IGO 6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81400" y="1967040"/>
            <a:ext cx="4381200" cy="292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HISTÒRI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Des de fa 2.500 anys: cartaginesos, àrabs, bereber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Portugal va ser el primer país europeu que va apoderar-se de Gà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Al 1588 la va vendre als angles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Al segle XIX : 3 milions d’esclaus a Amèrica (Gàmbia i Seneg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076640"/>
            <a:ext cx="360036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Arial"/>
              </a:rPr>
              <a:t>Al 1970 va aconseguir ser independent amb Dawda  Jawara  com a  primer Presid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l 1996, Yahya Jamme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va guanyar les elecc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23814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DESCRIP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EL PAÍS MÉS PETIT D’À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TÉ MUNTANYES, ES P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 UN RI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IU GÀ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 1.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3 Imagen" descr="RIU.jpg"/>
          <p:cNvPicPr/>
          <p:nvPr/>
        </p:nvPicPr>
        <p:blipFill>
          <a:blip r:embed="rId1"/>
          <a:stretch/>
        </p:blipFill>
        <p:spPr>
          <a:xfrm>
            <a:off x="4140360" y="2924280"/>
            <a:ext cx="460836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44440"/>
            <a:ext cx="7799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6600"/>
                </a:solidFill>
                <a:latin typeface="Arial Black"/>
              </a:rPr>
              <a:t>GRAN PART DEL RIU ÉS NAVEGABLE I  HI VIUEN MOLTS ANIMALS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6960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FAUNA I VEGETA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9" name="3 Marcador de contenido" descr="cocodril.jpg"/>
          <p:cNvPicPr/>
          <p:nvPr/>
        </p:nvPicPr>
        <p:blipFill>
          <a:blip r:embed="rId1"/>
          <a:stretch/>
        </p:blipFill>
        <p:spPr>
          <a:xfrm>
            <a:off x="3214800" y="442908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5 CuadroTexto"/>
          <p:cNvSpPr/>
          <p:nvPr/>
        </p:nvSpPr>
        <p:spPr>
          <a:xfrm>
            <a:off x="1750320" y="1785960"/>
            <a:ext cx="410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560 ESPÈCIES D’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OLTS ANIMALS SALVATGE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XIMPANCÉS I ALTRES MONOS, COCODR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t0.gstatic.com/images?q=tbn:lpbc5QcgDINA0M:http://servicios.laverdad.es/nuestratierra/nt10102008/imag/002D5CTGP3_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2990880"/>
            <a:ext cx="2487600" cy="176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0.gstatic.com/images?q=tbn:de8Mue5M11VBTM:http://www.franjadeponent.cat/gambia/faun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80" y="307800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t0.gstatic.com/images?q=tbn:OesI52SUsmbm_M:http://farm2.static.flickr.com/1026/1348948125_44a2b124f6_m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93080" y="1197000"/>
            <a:ext cx="100800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MOLTS ANIMALS SALVATG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5" name="3 Marcador de contenido" descr="ANIMAL.jpg"/>
          <p:cNvPicPr/>
          <p:nvPr/>
        </p:nvPicPr>
        <p:blipFill>
          <a:blip r:embed="rId1"/>
          <a:stretch/>
        </p:blipFill>
        <p:spPr>
          <a:xfrm>
            <a:off x="1646280" y="2211480"/>
            <a:ext cx="3190680" cy="228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t1.gstatic.com/images?q=tbn:D_4xoxC-wNLvMM:http://wikifaunia.com/images/7/7c/Chimpanc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4880" y="1844640"/>
            <a:ext cx="214020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t2.gstatic.com/images?q=tbn:Te_W_8EKLY92lM:http://www.tuswallpapersgratis.com/images/wallpapers/Hipopotamo_1024x768-888373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4506840"/>
            <a:ext cx="2735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04:32Z</dcterms:created>
  <dc:creator>mama</dc:creator>
  <dc:description/>
  <dc:language>en-US</dc:language>
  <cp:lastModifiedBy>prof</cp:lastModifiedBy>
  <dcterms:modified xsi:type="dcterms:W3CDTF">2010-01-11T14:52:23Z</dcterms:modified>
  <cp:revision>25</cp:revision>
  <dc:subject/>
  <dc:title>Diapositiva 1</dc:title>
</cp:coreProperties>
</file>